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E268-381E-4C96-9E96-66FFE82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B1E6-C632-4153-BC4F-6C5534EE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013D-9FAF-4135-8D97-F95F138E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40DA-3CAE-4DF8-AF48-0F7FC954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3DB1-8B3A-46A0-860B-5D48D66C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445-5F8F-4423-B55C-BD107AA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8E5-002D-4DBA-A334-D8B8E31C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E5B8-AF8D-4856-928C-3E928B4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1E6B-94E6-4EA8-A776-1E1D5DAD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0E29-8308-4B7F-A7D1-411AD5B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166-6DAA-4C10-8127-1FFC067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A708-2C38-400B-9814-B0A2A1D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683-75DE-4922-9BE0-533F34D3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C946-92AB-49D3-85ED-5D17009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8599-29E3-41AF-AEA0-FBEDF6F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B25-A979-49B1-AF34-D7F38EC4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F9D1-BEFF-428A-AB08-F04C54BD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76A7-54E6-4C9B-817E-A813C4E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A62A-0868-4B0D-8027-081EC58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9EA4-D792-4690-9623-C1795D3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3CE0-A6E3-415D-A631-9935176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F76F-32CD-4537-9202-C1437CF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2644-F152-4EAA-93E8-9BE837C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182F-3C24-4FA4-92CE-3F83506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BEC-306D-4B6E-A7D7-6B493C523E4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7EF-52AC-4449-9A9D-54DF597235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951200" y="383040"/>
            <a:ext cx="820872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65040" y="237960"/>
            <a:ext cx="1162080" cy="1868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023200" y="3024360"/>
            <a:ext cx="44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38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Неесенцијалне аминокиселин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08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Неесенцијалне аминокиселин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су оне које се синтетишу у наше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глицин, аланин, серин, глутамат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аспартат, пролин, хидроксипролин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тирозин,  цистин и  цистеи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212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удбина слободних аминокиселина у крв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Content Placeholder 3" descr="D:\OSS NOVI PROGRAM\SLIKE\1. aminokiseline iz krvi.jpg"/>
          <p:cNvPicPr/>
          <p:nvPr/>
        </p:nvPicPr>
        <p:blipFill>
          <a:blip r:embed="rId1"/>
          <a:srcRect l="11481" t="7633" r="9162" b="7611"/>
          <a:stretch/>
        </p:blipFill>
        <p:spPr>
          <a:xfrm>
            <a:off x="222120" y="1380960"/>
            <a:ext cx="9715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ептидна в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34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имери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им вез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а вез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ормира 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амино-групе јед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лне групе друг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з издвај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лекул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65080" y="5238720"/>
            <a:ext cx="8429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1760" y="9525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1000"/>
          </a:bodyPr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везивање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птидном везом гради се дипепт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р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трипептид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ећег број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ептидним везама настај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и и 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ма саставу протеи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т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изграђени само од А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ложе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ред протеинск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адрж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протеинск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ли простетич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груп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ложеним протеинима припадају: гликопротеи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липопротеини, фосфопротеини, нуклеопротеин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ромопрот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Content Placeholder 3" descr="D:\OSS NOVI PROGRAM\SLIKE\7. struktura proteina.jpg"/>
          <p:cNvPicPr/>
          <p:nvPr/>
        </p:nvPicPr>
        <p:blipFill>
          <a:blip r:embed="rId1"/>
          <a:srcRect l="15040" t="15664" r="13534" b="7225"/>
          <a:stretch/>
        </p:blipFill>
        <p:spPr>
          <a:xfrm>
            <a:off x="293760" y="1380960"/>
            <a:ext cx="9501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1760" y="16668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број и редосле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олип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птид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абилизована пептид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унд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α-хеликс, β-набране структу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умич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о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α-хеликс има облик спирале, чија је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билизована водоничним везама измеђ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-H  и C=O група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дног полипеп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212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36320" y="1738440"/>
            <a:ext cx="9429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рција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просторни распоред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обуларни или фибриларни обл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он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хидрофоб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Van der Valsov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улфидних в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терне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ивањем два или 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аца нековалентним  интермолекулс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за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емоглоб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е протеин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376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пр. α-кератин, еластин, колаге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иокатализато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енз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то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инсулин, глукагон), транспор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албумини, глобулини, хемоглоб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шти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антител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уфе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лог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ређивањ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отеина крв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ома важ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баланс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атолош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т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гностички и прогностич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1760" y="15238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авремене аналитичке мето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дентификују око 300 различитих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труктурни елементи ћелија или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растворени у интрацел.или екстрацелуларној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се разликују 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саставу, структури, функцији, расподел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 , као и конц. у тел.течностим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дрављу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лаб. испитивања најприступачнији су проте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ереброспин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мнионск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тонеалне, плеур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аливе и фе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960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протеина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340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аз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ажу пептидну ве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ендопептида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син, трипсин, химотрипсин и еласт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егзо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пептид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тр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66ff33"/>
                </a:solidFill>
                <a:latin typeface="Arial"/>
                <a:ea typeface="Arial"/>
              </a:rPr>
              <a:t>(*осим имуноглобулина</a:t>
            </a:r>
            <a:r>
              <a:rPr b="0" lang="sr-RS" sz="3200" spc="-1" strike="noStrike">
                <a:solidFill>
                  <a:srgbClr val="66ff33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, 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плазми  око  65-85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60-80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различит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улог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ње колоидно осмотског P плазм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на , пуферска , одбрамбе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утритивна  и улога у коаг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123840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Одржање колоидно осмотског притиск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оидно осмотски притисак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е супротставља се хидростатс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у крви који би довео до изласк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интраваскуларног прос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 тај начин одржава се стална запре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у цирк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Албумин главни носилац колоидно осмотског притиска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Транспо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ти, хормони, лекови и јони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ују се путем крви везани 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 транспор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сне киселине, билирубин, неке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уги протеини транспорт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вожђе (трансферин), кортизол, тирокс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е, липосол.витамине,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1760" y="152388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Заштитна функ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имуноглобулини су антитела ко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збеђују одбрану организма од инфе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истем комплемента се састоји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их компонен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ћина фактора коагулације су протеинск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акутне фазе - протективне ф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синтеза убрзана у инфламаторним реакцијам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376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уферска улог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имају улогу у одржању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физиолошком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, они су нег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електрисани и могу да везују водоников ј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2120" y="1595520"/>
            <a:ext cx="9786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упак за раздвајање плазма протеина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у нето наелектрисањ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аснива се на способности кретања раст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плазме у одговарајућем пуферу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тицајем електр.п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различитих физичко-хемијских ос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ују се и по електроф. покретљ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плазме даје следеће категорије проте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γ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серу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исте категорије без фибрин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неких патолошких стања долази до поремећаја односа између појединих плазм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тски профил – олакшава дијагн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мањена конц. протеина у плазми (Хипопротеинемиј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08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а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а син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вољно уношењ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у варењу и апсорп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е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ури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преко ГИТ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проте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концентрација проте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у услови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ехидратаци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г повраћ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р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ној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93760" y="12384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нтитативно најзначајнији протеин плаз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(55-65%) (концентрација око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45g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лог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ржавање колоидно-осмотског (онкотског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а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нспортна (билирубин, масне кис., тирок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ијодтиронин, кортизол, алдостерон, мно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, калциј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р ендоген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Calibri"/>
              </a:rPr>
              <a:t>Протеолитички ензи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Content Placeholder 3" descr="D:\OSS NOVI PROGRAM\SLIKE\5. proteolitički enzimi.jpg"/>
          <p:cNvPicPr/>
          <p:nvPr/>
        </p:nvPicPr>
        <p:blipFill>
          <a:blip r:embed="rId1"/>
          <a:srcRect l="10190" t="18321" r="9793" b="16377"/>
          <a:stretch/>
        </p:blipFill>
        <p:spPr>
          <a:xfrm>
            <a:off x="579600" y="19526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6320" y="152388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 албумина у плазми зависи од уношења АК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ено одређивање може бит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роцену нутритивног стат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мене конц. албу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тичу на однос слободног и везаног обл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ганда које транспорт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албумина утиче на метаболизам билирубина,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их кис., дејство хормона и ле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 – праћена појавом едема (оток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2120" y="1738440"/>
          <a:ext cx="9651960" cy="5680080"/>
        </p:xfrm>
        <a:graphic>
          <a:graphicData uri="http://schemas.openxmlformats.org/drawingml/2006/table">
            <a:tbl>
              <a:tblPr/>
              <a:tblGrid>
                <a:gridCol w="4826160"/>
                <a:gridCol w="48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тањ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синтез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бољења јет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апсорп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нутри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Убрзан катаболиз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штећење тки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нфлама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убитак проте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тски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патија 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iabetesu,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истемском лупус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Ентеропат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ешке опеко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дистрибуц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scites (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злазак из интраваскуларног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ростора  у перитонеалну течно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албум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а у дехидрат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176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електрофо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тс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β-γ регио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рмал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ациј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и  2 до 4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ибриноген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рудница, у току менстру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блажих болести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високе концентр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акутних бактеријских инфекција (нпр. пнеумококних пнеумонија), сепси, реуматкој грозници и нефроз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актанти акутне фа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1760" y="1309680"/>
            <a:ext cx="9937800" cy="56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 односу на “понашање”  у акутним стањ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акон операција, инфаркта миокарда.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а протеини се могу поделити 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не и нега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и реактантни акутне ф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лазма протеини чија се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о ↑ у овим патолошким стањ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Ц-реактивни проте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антитрип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 кисели гликопротеин, хаптоглоб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, церулоплазм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960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1760" y="13809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тише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лазми  нормалнa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5 m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P везује полисахари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тне у многим бактеријама, гљивам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раз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а се комплексира CRP постаје актива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комплемента и иницира опсонизациј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агоцитозу и лизу нападнутих ћел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епознавање, везивање и уклањање токс. супстанци из циркул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Content Placeholder 3" descr="D:\FARMACIJA NOVI PREDMET\crp_mechanism.jpg"/>
          <p:cNvPicPr/>
          <p:nvPr/>
        </p:nvPicPr>
        <p:blipFill>
          <a:blip r:embed="rId1"/>
          <a:stretch/>
        </p:blipFill>
        <p:spPr>
          <a:xfrm>
            <a:off x="365040" y="180972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34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ан пораста CRP-а у плазм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специфич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исутан је у ток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инфаркта миокар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па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оперативних захв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неопластичних пролифер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протеин који се синтетиш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 електрофорегра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дваја се у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- глобулинској фрак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ф-ј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 слободног хемоглоб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ваки молекул хаптоглобина може да веж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ва молекула хем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је иреверзибилно, настали комле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 уклања из плазме дејством ћелиј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тикулоендотелног сист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1760" y="12384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0000"/>
          </a:bodyPr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хаптоглобина у плазми индиковано је у случа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а акутне фазе и убрзане хем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пекот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на интраваскуларна хемо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хемолизна анемија, трансфузија крви, мала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елуц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176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ење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почињ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ндопептид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активацијом неактивног прекурс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епсиногена под дејств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д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идролизује пептидне везе  ароматич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К (фенилаланин и тирозин) са другим 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23040" y="166680"/>
            <a:ext cx="2691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 -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i="1" lang="sr-RS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гликопроте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1760" y="14526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оји се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дног полипеп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ланца и 6 до 7 атом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ункције церулоплазм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зимска активнос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ерооксидаз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лизује оксидаци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l)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 везивање гвожђа за трансфе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ко 95% укупне количине бакр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адржано је у структури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лује као антиоксид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960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с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инфекцијама, малигним болес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уми, болести ретикулоендотел.си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-је или опструкције жучних пут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Wilson-ov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апсорпције, малнутриције, нефр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- гликопроте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же да веже дв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va Fe(l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 у плазми ве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псорбовано 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гестивног тракта и транспортује га до јетр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а које корис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а синтез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оглобина, цитох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трансферина у плазми зависи од расположивости гвожђ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недостатку гвожђа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а у плазми расте због ↑ 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2120" y="1778040"/>
            <a:ext cx="9715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везивања за рецептор ослобађа с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е преузима ћелија, док се апотрансфер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 поново у плазму где може понов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ши ф-ју транспортног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око 1/3 трансферина засићена је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к је преостала количина слобод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760" y="17384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диференцијалној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g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немија и праћењ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је концентрациј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ни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жи је и проценат засићења трансфе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вожђ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о је анемија последица поремећаја уград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Ер, концентрација транферина је снижена или нормална а степен засићења вис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760" y="130968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е код инфламаторних 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лигних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специфично снижен к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е, хроничних болести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праћених губитком прот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ефротски 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трансфе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оку примене естр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беланчевине које се синтетишу као одгов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присуство антигена (А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ше ф-ју антитела (Ат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езбеђују хуморалну заштиту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познајући антиге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ицирајући механизам за њихово уништ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212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1760" y="11667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4000"/>
          </a:bodyPr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за антите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плазмоцитима који настају трансформациј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 - лимфоцита након стимулације Аг у слез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мфним жлездама, костној срж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лазмоцити секретују 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соко специфич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а да вежу А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 се комплекс Аг-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т – беланчевине из групе глоб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ф-је у имунолошком одговору називају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32040" y="592200"/>
            <a:ext cx="87184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ма структури и биолошким својств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 се сврставају у 5 осно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96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нзими  панкреаса  секретују се из егзокриног панкреаса у црева ка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неактивни прекурс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у спадај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трипсиноген, химотрипсиноген,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 и Б и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еласт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Централни догађај у активацији  панкреасних проензима је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активација трипсиногена у трипсин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ејством цревне ентерокиназ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Трипсин делује аутокаталитички на трипсиноген и каталитички на химотрипсиноген и еластазу које преводи у одговарајуће активне облике</a:t>
            </a:r>
            <a:r>
              <a:rPr b="0" lang="sr-C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2120" y="309600"/>
            <a:ext cx="97236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нижење 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3668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стварања имуноглобулин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мфоидни малигнитети,токсичне р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суфицијенција бубрег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кови: фенитоин, пеницилам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имуноглобулина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утем бубрега (нефротски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ИТ тракта (ентеропат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ко коже (опекот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60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</a:t>
            </a:r>
            <a:r>
              <a:rPr b="0" i="1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36680" y="1452600"/>
            <a:ext cx="10144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фек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жне, цревне, респираторне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русне инф-је, маларија –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.бактеријске инф-је – св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утерине инф-је 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ви пупча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утоимуне реак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предомини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ични активни хепатити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ергијске р-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ство протеина у урину у количини већој 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0 mg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1,73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Протеинур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) функционална или асимптома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) органс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) пара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5222880" y="4167360"/>
            <a:ext cx="4654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7960" y="1809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Гломерулар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оштећења гломеру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&gt;2g</a:t>
            </a:r>
            <a:r>
              <a:rPr b="0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е се протеини велике молекулске ма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овање токсина,  инфек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скуларних 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акутни постстрептококни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гломерулонефр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6437160" y="237960"/>
            <a:ext cx="346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9600" y="1238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Тубулар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1-3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g</a:t>
            </a:r>
            <a:r>
              <a:rPr b="0" lang="sr-Latn-RS" sz="28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благе до умер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у се протеини ниске РМ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-микроглобу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акутне тубуларне некр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хроничног 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пијело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реналне транспланта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интоксикације тешким метал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Latn-CS" sz="2800" spc="-1" strike="noStrike">
                <a:solidFill>
                  <a:srgbClr val="00cc00"/>
                </a:solidFill>
                <a:latin typeface="Arial"/>
                <a:ea typeface="Arial"/>
              </a:rPr>
              <a:t>Wilsonove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Функцио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ртостатска 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агање претераној топлоти/ хла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изичко вежб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“марш протеинурија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2" descr="http://www.blic.rs/data/images/2011-09-10/174724_vojna-parada-foto-milos-peric-0033_origh.jpg"/>
          <p:cNvPicPr/>
          <p:nvPr/>
        </p:nvPicPr>
        <p:blipFill>
          <a:blip r:embed="rId1"/>
          <a:stretch/>
        </p:blipFill>
        <p:spPr>
          <a:xfrm>
            <a:off x="846000" y="4952880"/>
            <a:ext cx="423396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grupko.rs/uploaded_pictures/content/ponude/450x320/690-dinara-umesto-2-000-dinara-za-mesec-dana-vezbanja-u-teretani-sa-kardio-programom-sada-je-pravo-vreme-da-se-pokrenete-128.jpg"/>
          <p:cNvPicPr/>
          <p:nvPr/>
        </p:nvPicPr>
        <p:blipFill>
          <a:blip r:embed="rId2"/>
          <a:stretch/>
        </p:blipFill>
        <p:spPr>
          <a:xfrm>
            <a:off x="5722920" y="4952880"/>
            <a:ext cx="34178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е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конгестивно срчано оштећењ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хидрат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ост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Обољења (инфективна или малигн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мокраћне беш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оста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арапротеинурија </a:t>
            </a:r>
            <a:br>
              <a:rPr sz="3600"/>
            </a:b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   - </a:t>
            </a:r>
            <a:r>
              <a:rPr b="1" i="1" lang="sr-RS" sz="3200" spc="-1" strike="noStrike">
                <a:solidFill>
                  <a:srgbClr val="ffff00"/>
                </a:solidFill>
                <a:latin typeface="Garamond"/>
              </a:rPr>
              <a:t>Појава парапротеина у мокраћи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7960" y="159552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2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грешка у синтези тешких и лаких ланаца имуноглобул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nce-Jone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о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protein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ецифичан нискомолекуларни протеин који се излучује у урину код више од половине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лтиплим мијелом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урину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кроглобулинемиј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агулише на Т од 45-60</a:t>
            </a:r>
            <a:r>
              <a:rPr b="0" lang="sr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поново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вара даљим загревањем до кључ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8582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</a:t>
            </a:r>
            <a:r>
              <a:rPr b="0" i="1" lang="sr-RS" sz="3600" spc="-1" strike="noStrike">
                <a:solidFill>
                  <a:srgbClr val="ffcc00"/>
                </a:solidFill>
                <a:latin typeface="Arial"/>
                <a:ea typeface="Arial"/>
              </a:rPr>
              <a:t>лабораторијски тестови за одређивање протеина у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960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литативно одређи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ови са реагенс трак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 са сулфосалицилном кисе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нтитативно одређивање (24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 h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урин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иурет мет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ода везивања спец. бо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урбидиметриј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6" descr="http://www.vet.uga.edu/ivcvm/courses/vpat5215/urinary/uremia/images/F06255.jpg"/>
          <p:cNvPicPr/>
          <p:nvPr/>
        </p:nvPicPr>
        <p:blipFill>
          <a:blip r:embed="rId1"/>
          <a:stretch/>
        </p:blipFill>
        <p:spPr>
          <a:xfrm>
            <a:off x="6794640" y="2023920"/>
            <a:ext cx="10000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1760" y="45252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доказивање тест тракам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из урина мењају боју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тетрабромфенол плаво) од жуте преко плаво-зелене до плаве, без промене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Лажно пози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алкалан урин, контаминација узорка или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осу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хематур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сока релативна густина у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Лажно нега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и,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Bence-Jones-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ови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с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ендопептидаза, раскида пептидне ве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базних АК (лизина и аргинин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делује пр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редности од 7,5-9,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мотри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скида пептидне везе које гра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оматич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стаза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е ве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неутр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008000" y="380880"/>
          <a:ext cx="8072640" cy="6500880"/>
        </p:xfrm>
        <a:graphic>
          <a:graphicData uri="http://schemas.openxmlformats.org/drawingml/2006/table">
            <a:tbl>
              <a:tblPr/>
              <a:tblGrid>
                <a:gridCol w="2691000"/>
                <a:gridCol w="3128760"/>
                <a:gridCol w="2252880"/>
              </a:tblGrid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SA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зул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замућењ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арб.је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ближна концентрација протеина у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гатив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ма замуће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lt;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р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Једва 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2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без гранул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ом без флокул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ама и флокулациј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-5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рудва преципитираних проте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gt;5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6"/>
          <p:cNvSpPr/>
          <p:nvPr/>
        </p:nvSpPr>
        <p:spPr>
          <a:xfrm>
            <a:off x="2293920" y="697392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абела:Резултати теста са сулфосалицилном кисел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шкарац старости 44 године, примљен је у болницу  са отоком лица који траје 6-8 недеља уназад. На основу анамнестичких података, лекар сазнаје да је отеченост капака трајала већ недељама и да пацијент од детињства има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тип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Поред отечености лица лекар је приметио и отоке на ногама. Пацијент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акође наводи и да  је имао обострану упалу крајника два месеца пре пријема у болн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3760" y="523800"/>
            <a:ext cx="94298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- Лабораторијски налаз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52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64 - 83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8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35- 52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Холестеро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2,2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       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3,1-5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Г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5,5 ↑                     0,1-1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фосфо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,18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↑                   0,8-1,6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,8  ↓                     2,02-2,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ре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2,5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3,0-8,0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9,2g 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лиренс креатини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0,5 ml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ec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1,47-2,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76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36680" y="130968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1. Које су улоге протеина крвне плазм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2. Навести узроке хипопороте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3. Објаснити најважније улоге албуми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4. Који су узроци хипоалбум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Зашто пацијент има оток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5. Да ли би требало проверити конц.калцијума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и зашт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6. Протеинурије – дефиниција и поде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7. Који су лабораторијски тестови за одређивање протеина у урин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25 година јавља се лекару због малаксалости,  продуктивног кашља и температуре 39,5</a:t>
            </a:r>
            <a:r>
              <a:rPr b="0" lang="sr-R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која траје два дана уназад. Прегледом на плућима установљен је пооштрен дисајни шум,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RDG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лућа показује промене које иду у прилог обостраној бронхопнеумониј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Лабораторијски налаз: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реф.вред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еукоцити                                20.06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      (3.70-10.00) 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Неутрални гранулоцити%      85.09                  (44.00-72.00)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RP                                          120                     (0.0-5.0) m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1760" y="38088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3760" y="18097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а су реактанти акутне фаз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вести пози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а је улога Ц-реактивног протеина у организ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им запаљенских процеса у којим још стањима Ц-реактивни протеин показује пораст концентрације у серу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је значај пораста неутрофилних гранулоцита код нашег пацијен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одваја ароматичне и алифати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(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Б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ваја баз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арење протеина наставља се у танком цреву, где се дејством аминопептидаза и дипептидаза дипептиди и трипептиди разлажу на поједина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504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К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се апсорбују из лумена танког црева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екундарним N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-зависним активним тран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лакшаном дифузиј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мембрани ентероцита постоји више система за транспорт АК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неутралних аминокисе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базних аминокиселина и цисти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киселих аминокиселина и амид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цикличних аминокиселина, иминокиселина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ц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сенцијалне аминокисели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је значајна апсорпција есенциј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тј. о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је се не синтетишу у наш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 их уносимо искључив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сенцијалне аминокиселин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тофан, фенилаланин, лизин, треон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алин, метионин, леуцин, изолеуц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ргинин и хистид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3:29Z</dcterms:modified>
  <cp:revision>267</cp:revision>
  <dc:subject/>
  <dc:title>PowerPoint Presentation</dc:title>
</cp:coreProperties>
</file>